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281A-7C10-4344-941F-DB973147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390-E2A2-4426-939D-CF980357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0C9D-6F47-4926-9FA9-7ADD81C1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FA00-A2D4-4748-B720-91DFF097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59E-6635-439D-BF35-2BA3CEBF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3B9-AA04-40F5-9C2C-21FF623A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66E6-5FB0-415F-8C9C-C203D12D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55E-DA27-4E96-9B64-89640D51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CDF0-E976-4A59-9A38-C764FE2F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F14E-55B8-4329-B406-855D9664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6D12-EBB5-4BE1-ACB3-A95088D3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6BD3-5689-4C9C-B26C-32CC2433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4593-8EA6-4FE6-A5FF-1C4B74AD5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6600"/>
                </a:solidFill>
                <a:latin typeface="Times New Roman"/>
              </a:rPr>
              <a:t>Konzeptioneller Vergleich von </a:t>
            </a: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VRML</a:t>
            </a:r>
            <a:r>
              <a:rPr b="0" lang="de-DE" sz="40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Java3D</a:t>
            </a:r>
            <a:r>
              <a:rPr b="0" lang="de-DE" sz="4000" spc="-1" strike="noStrike">
                <a:solidFill>
                  <a:srgbClr val="006600"/>
                </a:solidFill>
                <a:latin typeface="Times New Roman"/>
              </a:rPr>
              <a:t> und </a:t>
            </a: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OpenGL</a:t>
            </a:r>
            <a:r>
              <a:rPr b="1" lang="de-DE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de-DE" sz="4000" spc="-1" strike="noStrike">
                <a:solidFill>
                  <a:srgbClr val="006600"/>
                </a:solidFill>
                <a:latin typeface="Times New Roman"/>
              </a:rPr>
              <a:t>hinsichtlich ihrer Eignung zur Erstellung von</a:t>
            </a:r>
            <a:br>
              <a:rPr sz="4000"/>
            </a:b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Animatio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51960" y="4876920"/>
            <a:ext cx="26128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von</a:t>
            </a:r>
            <a:br>
              <a:rPr sz="36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hristian 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OpenG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3733560"/>
            <a:ext cx="784836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lle Zwischendaten werden nach der Rastererung vergessen (Hauptaufwand der Berechnung ist davor </a:t>
            </a: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och Operationen auf Pixelebene möglich, aber unhand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opengl_pipeline_klein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0072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Das </a:t>
            </a: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Animationsmodell</a:t>
            </a: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 von </a:t>
            </a: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VR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VR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41907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ensoren erzeugen Ereigni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lle empfangen und senden, bzw. senden we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rpolatoren und Scripte berechnen neue We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vrml_AniModell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5344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Route-Mechanismus (VRM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Courier New"/>
              </a:rPr>
              <a:t>ROUTE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 QuellKnoten.QuellVariable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3200" spc="-1" strike="noStrike">
                <a:solidFill>
                  <a:srgbClr val="3333cc"/>
                </a:solidFill>
                <a:latin typeface="Courier New"/>
              </a:rPr>
              <a:t>TO</a:t>
            </a: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 ZielKnoten.Ziel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ehrere Verbindungen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zu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einer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ehrere Verbindungen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von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einer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ndlosschleifen nicht möglich, da pro Nachrichtenkette eine Variable nur einmal eine Nachricht senden k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Sensoren und Interpolatoren (VRM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ensoren ändern ihre Variablen anhand von Benutzereingaben oder Z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terpolatoren rechnen 'Zeit'-Werte in andere um, z.B. Translationen, Rotat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terpolator-'Zeit'-Werte sind im [0,1] Interv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terpolatoren können Teilintervalle unterschiedlich linear Interpolieren, z.B.</a:t>
            </a: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[0,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0.5,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1]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[5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0, 6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0, 8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0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Script-Knoten - Struktur (VRM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cri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# Interface-Teil = Variab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# Script-Teil = Funktion die ausgeführt we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VRML-Browser Aufb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VRML_Browser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7546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274284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Das </a:t>
            </a: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Animationsmodell</a:t>
            </a: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 von </a:t>
            </a: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Java3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Java3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java_AniModell" descr=""/>
          <p:cNvPicPr/>
          <p:nvPr/>
        </p:nvPicPr>
        <p:blipFill>
          <a:blip r:embed="rId1"/>
          <a:stretch/>
        </p:blipFill>
        <p:spPr>
          <a:xfrm>
            <a:off x="125280" y="2057400"/>
            <a:ext cx="89107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Der Scheduler (Java3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ekommt von 'Verhalten'-Objekten (also auch von Interpolatoren) gesagt bei welchen Ereignissen sie aufgerufen werden sollen. Es wird zusätzlich eine Scheduleregion angegeben (Optimierung durch cull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rukture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olume/scheduling tree (Scheduleregion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nd/or tree (Ereigniskombin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2388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Motivation / Grundlagen: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as ist OpenGL, Java3D und VRML? (incl. Beispie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ie sind die Animationsmodelle aufgebau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o sind Unterschiede zwischen den Animations-Konzep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as Resul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1447920"/>
            <a:ext cx="73152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Interpolatoren (Java3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terpolatoren sind Klassen, die anhand von einer Aktivierungsfunktion Eigenschaften oder die Position von geometrische Objekte veränd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ie Aktivierungsfunktion bildet Zeitwerte in 4 Phasen in Werte zwischen 0 und 1 ab: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ufstieg, 1, Abstieg und 0.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ie Steigung muß nicht konstant s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286000" y="5334120"/>
          <a:ext cx="48006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5334120"/>
                    <a:ext cx="48006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Verhalten-Klasse (Java3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public class bspBehavior extends Behavi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// Variablendeklaration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public bspBehavior(Parameter p) {  // Variablen initialisieren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public void initialize()  { wakeupOn(wakeupKriterium)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public void processStimulus(Enumeration criteria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// Die Handl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wakeupOn(wakeupKriterium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Unterschiede </a:t>
            </a: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der</a:t>
            </a:r>
            <a:br>
              <a:rPr sz="4400"/>
            </a:b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Animations-Konzepte </a:t>
            </a: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von</a:t>
            </a: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 Java3D </a:t>
            </a: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und</a:t>
            </a: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 VR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Verhaltens-Klasse vs. Script-Kno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Java3D: Eingebettet vs. VRML: Schnittstelle  (d.h. bei VRML, Kommunikation zwischen zwei Threa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VRML-Script-Knoten: nur Werte-Berechnung, kein AWT (oder nur mit Tric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Java3D besser, da sie in eine Programmier-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sprache eingebettet 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Ereignisse / Sensor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VRML: Sensoren sind fertige Werkzeuge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Wenig Programmieraufw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Java3D: Nur Benachrichtigung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Mehr Möglichke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Ähnliches Angebot an Interaktionsmöglichkeiten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(Es fehlt in Java3D der Sichtbarkeit-Sens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Scheduleregionen und </a:t>
            </a:r>
            <a:br>
              <a:rPr sz="4400"/>
            </a:b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Bounding-Bo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Java3D: Scheduleregionen sind notwendig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Optimierung wird 'aufgezwungen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VRML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ounding-Boxes können angegeben werd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ie existieren nicht für alle Knoten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dezentrale Regelu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ieses Feature wird häufig überse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Scheduler vs. Ro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ein direkter Vergleich möglich, da die Mechanismen unterschiedliche Aufgaben hab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cheduler: 'Nur' Ereignisse werden weitergege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out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ariablen werden weitergegeben, es entsteht eine  Nachrichtenk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 Variablen-Weitergabe kann auch Ereignis s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Interpolator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13372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Ähnliches Angebot bei beiden Schnittstellen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Java3D: Aktivierungsfunktion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Mehr Möglichkeiten (z.B. Pendelbewegu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VRML-Browser in Java3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228600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s zeigt sich, daß einer Realisierung nichts im  Wege steht und daß die Programmier-ung einfacher in Java3D ist als (direkt) in OpenG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6600"/>
                </a:solidFill>
                <a:latin typeface="Times New Roman"/>
              </a:rPr>
              <a:t>Resultat</a:t>
            </a:r>
            <a:r>
              <a:rPr b="1" lang="de-DE" sz="36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de-DE" sz="3600" spc="-1" strike="noStrike">
                <a:solidFill>
                  <a:srgbClr val="006600"/>
                </a:solidFill>
                <a:latin typeface="Times New Roman"/>
              </a:rPr>
              <a:t>des Animationsmodell-Vergleic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360" y="2243160"/>
            <a:ext cx="5425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838080"/>
            <a:ext cx="8686800" cy="60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600" spc="-1" strike="noStrike">
                <a:solidFill>
                  <a:srgbClr val="3333cc"/>
                </a:solidFill>
                <a:latin typeface="Tahoma"/>
              </a:rPr>
              <a:t>Java3D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erhaltensklass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önnen vererbt werden (Java ist O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inbettung in Programmierspr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entrale Konzepte (Schedule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Nicht ganz so einfach zu benutzen, dafür für alles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  geeig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600" spc="-1" strike="noStrike">
                <a:solidFill>
                  <a:srgbClr val="3333cc"/>
                </a:solidFill>
                <a:latin typeface="Tahoma"/>
              </a:rPr>
              <a:t>VRML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Umfassende Sensor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nfach zu benutzen, aber nicht für jeden Gebrau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chlechte Anbindung an Programmiersprac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Nicht alle Konzepte sind zentr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600" spc="-1" strike="noStrike">
                <a:solidFill>
                  <a:srgbClr val="3333cc"/>
                </a:solidFill>
                <a:latin typeface="Tahoma"/>
              </a:rPr>
              <a:t>OpenGL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eine Animations-Mechanis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istorische Entwicklu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rüher: 3D-Bild (starr/statis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Heute: Virtuelle-Realität (VR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ermanente Abbild-Erstellung, Interaktion und Dynamik d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3D-Ob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nimationen notwend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oher Aufwand für 3D-Bild-Berechnung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Minimierung der Neuberechnungen notwendig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Gesucht: Ein Modell, daß Animationen </a:t>
            </a:r>
            <a:r>
              <a:rPr b="1" i="1" lang="de-DE" sz="2800" spc="-1" strike="noStrike">
                <a:solidFill>
                  <a:srgbClr val="000000"/>
                </a:solidFill>
                <a:latin typeface="Times New Roman"/>
              </a:rPr>
              <a:t>effektiv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realisi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Zwei Arten von Ani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Navigation / Intera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ynamik der 3D-Obje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Was ist OpenGL, Java3D und VR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le drei sind plattformübergreifende Schnitt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Times New Roman"/>
              </a:rPr>
              <a:t>OpenGL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Graphics Library)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Low-Level-A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es werden </a:t>
            </a:r>
            <a:r>
              <a:rPr b="0" i="1" lang="de-DE" sz="2200" spc="-1" strike="noStrike">
                <a:solidFill>
                  <a:srgbClr val="000000"/>
                </a:solidFill>
                <a:latin typeface="Times New Roman"/>
              </a:rPr>
              <a:t>einzelne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Abbilder von 3D-Szenen erstellt (CAD-Bereic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Times New Roman"/>
              </a:rPr>
              <a:t>Java3D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'Low-Level'-API,  Neu (Final-Release vor 2 Tag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Zur Erstellung von 'Virtueller Realität' (VR) geeignet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(es werden </a:t>
            </a:r>
            <a:r>
              <a:rPr b="0" i="1" lang="de-DE" sz="2200" spc="-1" strike="noStrike">
                <a:solidFill>
                  <a:srgbClr val="000000"/>
                </a:solidFill>
                <a:latin typeface="Times New Roman"/>
              </a:rPr>
              <a:t>mehrere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Abbilder hintereinander erstell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Times New Roman"/>
              </a:rPr>
              <a:t>VRML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Virtual Reality Modeling Language)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igh-Level-'API', WWW-Berei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VR mögli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6668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Beispiele</a:t>
            </a: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 für OpenGL, </a:t>
            </a:r>
            <a:br>
              <a:rPr sz="4400"/>
            </a:br>
            <a:br>
              <a:rPr sz="1500"/>
            </a:b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Java3D und VR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OpenG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void CCubeView::DrawScene(void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glTranslatef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0.0f, 0.0f, -m_fRadiu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glRotatef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wAngleZ, 0.0f, 0.0f, 1.0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wAngleZ += 5.0f;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glBegin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GL_QUADS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glColor3f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1.0f, 0.0f, 1.0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glVertex3f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-0.5f, 0.5f, 0.5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glVertex3f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-0.5f, -0.5f, 0.5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glVertex3f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0.5f, 0.5f, 0.5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glVertex3f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0.5f, -0.5f, 0.5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glEnd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glFinish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SwapBuffers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wglGetCurrentDC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Java3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BranchGroup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createSceneGraph(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BranchGroup objRoot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de-DE" sz="2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1" lang="de-DE" sz="2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BranchGroup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TransformGroup objTrans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de-DE" sz="2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1" lang="de-DE" sz="2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TransformGroup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objRoot.addChild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objTrans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objTrans.addChild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new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cc0000"/>
                </a:solidFill>
                <a:latin typeface="Courier New"/>
              </a:rPr>
              <a:t>ColorCube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0.4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objRoot.compile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de-DE" sz="2200" spc="-1" strike="noStrike">
                <a:solidFill>
                  <a:srgbClr val="3333cc"/>
                </a:solidFill>
                <a:latin typeface="Courier New"/>
              </a:rPr>
              <a:t>objRoot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Java3D_Baumstruktur" descr=""/>
          <p:cNvPicPr/>
          <p:nvPr/>
        </p:nvPicPr>
        <p:blipFill>
          <a:blip r:embed="rId1"/>
          <a:stretch/>
        </p:blipFill>
        <p:spPr>
          <a:xfrm>
            <a:off x="1600200" y="3591000"/>
            <a:ext cx="64389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VR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#VRML V2.0 utf8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Transfor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child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[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Shap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geometry Sphere { 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appearance Appeara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material Material { diffuseColor 0.8 0 0 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]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Das '</a:t>
            </a: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Animationsmodell'</a:t>
            </a:r>
            <a:r>
              <a:rPr b="0" lang="de-DE" sz="4400" spc="-1" strike="noStrike">
                <a:solidFill>
                  <a:srgbClr val="006600"/>
                </a:solidFill>
                <a:latin typeface="Times New Roman"/>
              </a:rPr>
              <a:t> von </a:t>
            </a:r>
            <a:r>
              <a:rPr b="1" lang="de-DE" sz="4400" spc="-1" strike="noStrike">
                <a:solidFill>
                  <a:srgbClr val="006600"/>
                </a:solidFill>
                <a:latin typeface="Times New Roman"/>
              </a:rPr>
              <a:t>OpenG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30T07:29:21Z</dcterms:created>
  <dc:creator>Student</dc:creator>
  <dc:description/>
  <dc:language>en-US</dc:language>
  <cp:lastModifiedBy>Student</cp:lastModifiedBy>
  <dcterms:modified xsi:type="dcterms:W3CDTF">1998-12-09T19:02:11Z</dcterms:modified>
  <cp:revision>70</cp:revision>
  <dc:subject/>
  <dc:title>Das Animationsmodell von VRML </dc:title>
</cp:coreProperties>
</file>