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763-8FC7-454C-9933-42113F16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95F-028A-412E-ADEA-DAA4CE89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087-4355-4DAA-8827-80FF0D9A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F84-25E1-4333-92E8-FF9EE7FF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508-314F-493D-BD2F-98CD7A06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7A2-5100-4EC0-BD76-F2488D21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C5B-BC74-42B3-B2FD-CBED0B0F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049-0F79-4A01-BEBA-7920FC9A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FF2-6DAC-410E-AD2A-1D938D18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A0C-58F3-4B9D-BCF4-A6C53533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C81-3B10-4F80-B2D8-3A528B5A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D0B-9FD7-4D4A-8DE7-5920CB3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76B4-1B55-43C6-8CB5-7F4A937AD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6600"/>
                </a:solidFill>
                <a:latin typeface="Times New Roman"/>
              </a:rPr>
              <a:t>Konzeptioneller Vergleich von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VRML</a:t>
            </a:r>
            <a:r>
              <a:rPr b="0" lang="de-DE" sz="40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Java3D</a:t>
            </a:r>
            <a:r>
              <a:rPr b="0" lang="de-DE" sz="4000" spc="-1" strike="noStrike">
                <a:solidFill>
                  <a:srgbClr val="006600"/>
                </a:solidFill>
                <a:latin typeface="Times New Roman"/>
              </a:rPr>
              <a:t> und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OpenGL</a:t>
            </a:r>
            <a:r>
              <a:rPr b="1" lang="de-DE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de-DE" sz="4000" spc="-1" strike="noStrike">
                <a:solidFill>
                  <a:srgbClr val="006600"/>
                </a:solidFill>
                <a:latin typeface="Times New Roman"/>
              </a:rPr>
              <a:t>hinsichtlich ihrer Eignung zur Erstellung von</a:t>
            </a:r>
            <a:br>
              <a:rPr sz="4000"/>
            </a:b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Animatio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1960" y="4876920"/>
            <a:ext cx="26128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on</a:t>
            </a:r>
            <a:br>
              <a:rPr sz="36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hristian 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Open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3733560"/>
            <a:ext cx="78483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lle Zwischendaten werden nach der Rastererung vergessen (Hauptaufwand der Berechnung ist davor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ch Operationen auf Pixelebene möglich, aber unhand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pengl_pipeline_klein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007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Das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Animationsmodell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 von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VR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R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41907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ensoren erzeugen Ereigni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lle empfangen und senden, bzw. senden we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rpolatoren und Scripte berechnen neue We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vrml_AniModell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534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Route-Mechanismus (VRM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Courier New"/>
              </a:rPr>
              <a:t>ROUTE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QuellKnoten.QuellVariable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3200" spc="-1" strike="noStrike">
                <a:solidFill>
                  <a:srgbClr val="3333cc"/>
                </a:solidFill>
                <a:latin typeface="Courier New"/>
              </a:rPr>
              <a:t>TO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ZielKnoten.Ziel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hrere Verbindungen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zu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einer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hrere Verbindungen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von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einer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ndlosschleifen nicht möglich, da pro Nachrichtenkette eine Variable nur einmal eine Nachricht senden k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Sensoren und Interpolatoren (VRM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ensoren ändern ihre Variablen anhand von Benutzereingaben oder Z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terpolatoren rechnen 'Zeit'-Werte in andere um, z.B. Translationen, Rota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terpolator-'Zeit'-Werte sind im [0,1] Interv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terpolatoren können Teilintervalle unterschiedlich linear Interpolieren, z.B.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[0,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.5,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1]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[5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, 6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, 8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Script-Knoten - Struktur (VRM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cr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# Interface-Teil = Variab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# Script-Teil = Funktion die ausgeführt we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RML-Browser Aufb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VRML_Browser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754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Das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Animationsmodell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 von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Java3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Java3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java_AniModell" descr=""/>
          <p:cNvPicPr/>
          <p:nvPr/>
        </p:nvPicPr>
        <p:blipFill>
          <a:blip r:embed="rId1"/>
          <a:stretch/>
        </p:blipFill>
        <p:spPr>
          <a:xfrm>
            <a:off x="125280" y="2057400"/>
            <a:ext cx="89107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Der Scheduler (Java3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kommt von 'Verhalten'-Objekten (also auch von Interpolatoren) gesagt bei welchen Ereignissen sie aufgerufen werden sollen. Es wird zusätzlich eine Scheduleregion angegeben (Optimierung durch cull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ruktur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olume/scheduling tree (Scheduleregion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nd/or tree (Ereigniskombi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otivation / Grundlagen: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as ist OpenGL, Java3D und VRML? (incl. Beispie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e sind die Animationsmodelle aufgeba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o sind Unterschiede zwischen den Animations-Konzep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as Resul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447920"/>
            <a:ext cx="73152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Interpolatoren (Java3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terpolatoren sind Klassen, die anhand von einer Aktivierungsfunktion Eigenschaften oder die Position von geometrische Objekte veränd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ie Aktivierungsfunktion bildet Zeitwerte in 4 Phasen in Werte zwischen 0 und 1 ab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fstieg, 1, Abstieg und 0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ie Steigung muß nicht konstant s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0" y="5334120"/>
          <a:ext cx="48006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5334120"/>
                    <a:ext cx="4800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erhalten-Klasse (Java3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public class bspBehavior extends Behavi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// Variablendeklaration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public bspBehavior(Parameter p) {  // Variablen initialisieren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public void initialize()  { wakeupOn(wakeupKriterium)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public void processStimulus(Enumeration criteria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// Die Hand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wakeupOn(wakeupKriterium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Unterschiede 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der</a:t>
            </a:r>
            <a:br>
              <a:rPr sz="4400"/>
            </a:b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Animations-Konzepte 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on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 Java3D 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und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 VR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erhaltens-Klasse vs. Script-Kno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Java3D: Eingebettet vs. VRML: Schnittstelle  (d.h. bei VRML, Kommunikation zwischen zwei Threa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RML-Script-Knoten: nur Werte-Berechnung, kein AWT (oder nur mit Tric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Java3D besser, da sie in eine Programmier-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sprache eingebettet 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Ereignisse / Senso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RML: Sensoren sind fertige Werkzeuge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Wenig Programmieraufw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Java3D: Nur Benachrichtigung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Mehr Möglichke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Ähnliches Angebot an Interaktionsmöglichkeite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(Es fehlt in Java3D der Sichtbarkeit-Sens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Scheduleregionen und </a:t>
            </a:r>
            <a:br>
              <a:rPr sz="4400"/>
            </a:b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Bounding-Bo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Java3D: Scheduleregionen sind notwendig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Optimierung wird 'aufgezwungen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RM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ounding-Boxes können angegeben werd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ie existieren nicht für alle Knot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dezentrale Regelu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ses Feature wird häufig überse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Scheduler vs. R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ein direkter Vergleich möglich, da die Mechanismen unterschiedliche Aufgaben hab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cheduler: 'Nur' Ereignisse werden weitergeg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ou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ariablen werden weitergegeben, es entsteht eine  Nachrichtenk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Variablen-Weitergabe kann auch Ereignis s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Interpolato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1337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Ähnliches Angebot bei beiden Schnittstelle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Java3D: Aktivierungsfunktio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Mehr Möglichkeiten (z.B. Pendelbewegu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RML-Browser in Java3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228600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 zeigt sich, daß einer Realisierung nichts im  Wege steht und daß die Programmier-ung einfacher in Java3D ist als (direkt) in OpenG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00"/>
                </a:solidFill>
                <a:latin typeface="Times New Roman"/>
              </a:rPr>
              <a:t>Resultat</a:t>
            </a:r>
            <a:r>
              <a:rPr b="1" lang="de-DE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de-DE" sz="3600" spc="-1" strike="noStrike">
                <a:solidFill>
                  <a:srgbClr val="006600"/>
                </a:solidFill>
                <a:latin typeface="Times New Roman"/>
              </a:rPr>
              <a:t>des Animationsmodell-Vergleic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360" y="2243160"/>
            <a:ext cx="5425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838080"/>
            <a:ext cx="8686800" cy="60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3333cc"/>
                </a:solidFill>
                <a:latin typeface="Tahoma"/>
              </a:rPr>
              <a:t>Java3D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erhaltensklass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önnen vererbt werden (Java ist 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bettung in Programmierspr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entrale Konzepte (Schedul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ganz so einfach zu benutzen, dafür für alles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  geeig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3333cc"/>
                </a:solidFill>
                <a:latin typeface="Tahoma"/>
              </a:rPr>
              <a:t>VRML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mfassende Senso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fach zu benutzen, aber nicht für jeden Gebrau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hlechte Anbindung an Programmiersprac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alle Konzepte sind zentr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3333cc"/>
                </a:solidFill>
                <a:latin typeface="Tahoma"/>
              </a:rPr>
              <a:t>OpenGL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Animations-Mechanis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istorische Entwicklu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üher: 3D-Bild (starr/st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eute: Virtuelle-Realität (V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ermanente Abbild-Erstellung, Interaktion und Dynamik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3D-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nimationen notwend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oher Aufwand für 3D-Bild-Berechnung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Minimierung der Neuberechnungen notwendig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Gesucht: Ein Modell, daß Animationen 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effektiv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realisi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Zwei Arten von An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avigation / Intera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ynamik der 3D-Obj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Was ist OpenGL, Java3D und VR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 drei sind plattformübergreifende Schnitt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Times New Roman"/>
              </a:rPr>
              <a:t>OpenGL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Graphics Library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Low-Level-A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es werden </a:t>
            </a:r>
            <a:r>
              <a:rPr b="0" i="1" lang="de-DE" sz="2200" spc="-1" strike="noStrike">
                <a:solidFill>
                  <a:srgbClr val="000000"/>
                </a:solidFill>
                <a:latin typeface="Times New Roman"/>
              </a:rPr>
              <a:t>einzelne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Abbilder von 3D-Szenen erstellt (CAD-Bereic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Times New Roman"/>
              </a:rPr>
              <a:t>Java3D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'Low-Level'-API,  Neu (Final-Release vor 2 Tag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Zur Erstellung von 'Virtueller Realität' (VR) geeignet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(es werden </a:t>
            </a:r>
            <a:r>
              <a:rPr b="0" i="1" lang="de-DE" sz="2200" spc="-1" strike="noStrike">
                <a:solidFill>
                  <a:srgbClr val="000000"/>
                </a:solidFill>
                <a:latin typeface="Times New Roman"/>
              </a:rPr>
              <a:t>mehrere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Abbilder hintereinander erstel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Times New Roman"/>
              </a:rPr>
              <a:t>VRML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Virtual Reality Modeling Language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igh-Level-'API', WWW-Bere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VR mögl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6668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Beispiele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 für OpenGL, </a:t>
            </a:r>
            <a:br>
              <a:rPr sz="4400"/>
            </a:br>
            <a:br>
              <a:rPr sz="1500"/>
            </a:b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Java3D und VR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Open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void CCubeView::DrawScene(voi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Translate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0.0f, 0.0f, -m_fRadiu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Rotate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wAngleZ, 0.0f, 0.0f, 1.0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wAngleZ += 5.0f;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Begin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_QUADS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Color3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1.0f, 0.0f, 1.0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Vertex3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-0.5f, 0.5f, 0.5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Vertex3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-0.5f, -0.5f, 0.5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Vertex3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0.5f, 0.5f, 0.5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Vertex3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0.5f, -0.5f, 0.5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End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Finish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SwapBuffers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wglGetCurrentDC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Java3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BranchGroup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createSceneGraph(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BranchGroup objRoot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de-DE" sz="2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de-DE" sz="2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BranchGroup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TransformGroup objTrans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de-DE" sz="2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de-DE" sz="2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TransformGroup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objRoot.addChild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objTrans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objTrans.addChild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new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cc0000"/>
                </a:solidFill>
                <a:latin typeface="Courier New"/>
              </a:rPr>
              <a:t>ColorCube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0.4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objRoot.compile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objRoot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Java3D_Baumstruktur" descr=""/>
          <p:cNvPicPr/>
          <p:nvPr/>
        </p:nvPicPr>
        <p:blipFill>
          <a:blip r:embed="rId1"/>
          <a:stretch/>
        </p:blipFill>
        <p:spPr>
          <a:xfrm>
            <a:off x="1600200" y="3591000"/>
            <a:ext cx="6438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R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#VRML V2.0 utf8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Trans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child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[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Shap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geometry Sphere { 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appearance Appear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material Material { diffuseColor 0.8 0 0 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]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Das '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Animationsmodell'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 von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Open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0T07:29:21Z</dcterms:created>
  <dc:creator>Student</dc:creator>
  <dc:description/>
  <dc:language>en-US</dc:language>
  <cp:lastModifiedBy>Student</cp:lastModifiedBy>
  <dcterms:modified xsi:type="dcterms:W3CDTF">1998-12-09T19:02:11Z</dcterms:modified>
  <cp:revision>70</cp:revision>
  <dc:subject/>
  <dc:title>Das Animationsmodell von VRML </dc:title>
</cp:coreProperties>
</file>